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3647-16AC-423B-8C53-AD54470D5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CC84-A09F-4499-9888-5AE2BC09C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37AD7-0221-4C87-8862-3B8C1448D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EAB7-7BF2-42AE-BEB4-FAE7140438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A752-D01C-4728-B42E-6E9A9BBAE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9E58-6C49-4783-AB64-9372A42E0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FE0A-4D78-414A-919D-342A8761D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266DD-5DB0-4AE5-8CCA-AA7090BE5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65EC-C5FA-4A96-AE09-F0942A203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EDAD-1FAD-47B8-A944-EC56A68BC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B003-6927-441C-A227-D9F5DC67C5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03190-C0EA-42F2-A7DA-3E3EE752A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8132-C76A-44E4-9D33-FC6502F82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24067"/>
          <a:stretch/>
        </p:blipFill>
        <p:spPr>
          <a:xfrm>
            <a:off x="8429760" y="626760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243480"/>
            <a:ext cx="8547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25000" y="658332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AEE  - Departamento de Águas e Energia Elétric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o Estado de São Paulo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2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EXIGÊNCIAS PARA APRESENTAÇÃ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 DE ESTUDOS E PROJETOS DE OBRAS HIDRÁULIC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A SEREM OUTOR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etodologias, critérios e parâmetros em hidrologia e 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24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PO -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retoria de Procedimentos de Outorga e Fisc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8680" y="5334120"/>
            <a:ext cx="68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eila de C. Gomes,  Mario Nakashima  e  Francisco G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F294-5859-4A01-90A6-5F4FEE17E4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040" y="1522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920"/>
            <a:ext cx="579132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Casos em que há      </a:t>
            </a:r>
            <a:r>
              <a:rPr b="1" lang="pt-BR" sz="3600" spc="-1" strike="noStrike">
                <a:solidFill>
                  <a:srgbClr val="ffffff"/>
                </a:solidFill>
                <a:latin typeface="Arial Narrow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- Captação / Der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6553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=  média de longo ter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mínima média de 7 dias e TR= 10 an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%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 curva de permanência de vaz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505320"/>
            <a:ext cx="5715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ínima remanescente para jusant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 ou da seção de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mí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50%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876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267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g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257800"/>
            <a:ext cx="7010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odologia: série históric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5 anos                     Estat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érie histórica &lt; 25 anos                     Regionalização 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91120" y="5562720"/>
            <a:ext cx="914400" cy="366480"/>
            <a:chOff x="4191120" y="5562720"/>
            <a:chExt cx="914400" cy="366480"/>
          </a:xfrm>
        </p:grpSpPr>
        <p:sp>
          <p:nvSpPr>
            <p:cNvPr id="134" name=""/>
            <p:cNvSpPr/>
            <p:nvPr/>
          </p:nvSpPr>
          <p:spPr>
            <a:xfrm>
              <a:off x="419112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59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CD87-77C4-478E-8EEF-125CCBF7EC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0040" y="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VAZÃO DE ENCHENTE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4038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or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Área de dren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 de concentr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eficiente de escoamento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nsidade da chuva cr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de enchente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idrograma e seu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6248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bacia de contribuiçã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imites divisor; hidrograf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lvegue; locação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  e/ou   aerofoto / imag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cupação dos solos d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s de s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 do talv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3E4A3-A28E-4E98-B2DE-9D7E1D8560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004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933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cipitação total anual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média de longo t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de Permanência de vaz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ptação: vazão nominal; vazão média; faixa de vazões (UH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ço: disponibilidade afluente; mínima reman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ularização pel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80A0-C25C-4543-A5DF-99D8962A1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522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914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098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Revestidas (aberta ou fechada), gabião, pedra argamassada, con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e similare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2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                  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15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412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lâmina d’água correspondente à vazão de proje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6002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agens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da altura do maciço, com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0,5 m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14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aliz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0481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Trapezoidal, em terra ou grama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..................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8880-B875-41ED-A773-E4D5F5E9B3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20" y="91296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vantGarde Bk BT"/>
              </a:rPr>
              <a:t>Intermedi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Galerias ...........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idem anterior – canalizações revestida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Bueiros  ........... para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2 D  - -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7242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= lâmina d’água a montante da entrada do bueir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medida a partir da geratriz inferior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00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Aéreas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(pontes): curso d’água natural .... 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analização .........................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m anterio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581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diâmetro interno do bu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C607-0A81-414C-9AFE-BD85BBA169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20" y="91440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vantGarde Bk BT"/>
              </a:rPr>
              <a:t>Rugosidade “n” – valores recomen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600200"/>
          <a:ext cx="4800600" cy="4073400"/>
        </p:xfrm>
        <a:graphic>
          <a:graphicData uri="http://schemas.openxmlformats.org/drawingml/2006/table">
            <a:tbl>
              <a:tblPr/>
              <a:tblGrid>
                <a:gridCol w="304776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po de Revesti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h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bi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dra argamass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ço corru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cret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38080" y="579132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Valores inferiores: compromisso do usuário na manutenção de “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183D-1492-4C80-969F-EF4DA22BB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CAN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: dimen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da canalização a montante e a jusante do trecho projetado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lanta: planialtimetria; implantação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 traçado geomé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ões transversais topobatimétricas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undo projetado; linha d’água pro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ão tipo do canal proj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DB80-2F9E-4024-A31B-4551D52239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TRAVE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o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a trave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para montante e jusante da travessia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ões transversais topobatimétric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ndo projetado; linha d’águ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da travessia: gaba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4F9E-05AE-4692-A313-5C98E27394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BAR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440" y="1066680"/>
            <a:ext cx="41911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 de vertedor e solei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cota x área x volume d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ição dos níveis operacionais: mínimo, máximo 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mortecimento da cheia: vazão máxima d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mensões do vertedor de superfí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s de descarga das estruturas hidráu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arregador de 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1371600"/>
            <a:ext cx="4495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arranjo g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da área de inundação: in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s proprietários rebeirin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s, cortes e detalhes: maciço 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truturas hidráu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91120"/>
            <a:ext cx="25905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P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contin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emer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93E69-E5D8-45A4-857D-D2393B9013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191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AEE poderá condicionar a outorga a adequações e/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a ações ou medidas estruturais e não estrutura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0621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009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286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(para f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ANALIZAÇÕES E 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A8D11-9FFF-45CF-9351-397DDA6F98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mento do nº de outorgas (Decreto 41258/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ministração descentralizada do DA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paridade de critérios, metodologias, parâmetros utilizados pelos projet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ixa qualidade dos estudos e projetos aprese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olescência precoce das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ras de pequeno porte (mai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ão compartilhada: DAEE, Cetesb, Meio Ambiente,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manda: uniformização de instruções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C5A96-90B3-4122-9AF2-CCF7A022B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ar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stipulados pelo DAEE (idem projeto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2900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Diferenç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stimada para C (C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vo às condições atuais de ocup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 risco maior – ondas de cheia catastró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5FE3-8D67-4F9F-9898-5916B2C222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3809880"/>
            <a:ext cx="6248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ório fo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étod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onograma físico das obra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04920"/>
            <a:ext cx="56390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Informaçõe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371600"/>
            <a:ext cx="6248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alidade do empreendimento ou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cterísticas técnic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nta(s) de localização regional e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80C3-85C5-4794-9739-7DE40569B5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5048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Vazão de ench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2670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isponibilidade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e superfí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6765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coam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mpo de Concen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nsidade da chuva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447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495680"/>
            <a:ext cx="266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zão de 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4FA0E-1689-4075-9A38-500F398353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274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6520" y="501480"/>
            <a:ext cx="221004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7080" y="1600200"/>
            <a:ext cx="2438280" cy="129528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5108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2510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43800" y="3063960"/>
            <a:ext cx="14889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Estat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8280" y="224460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8280" y="224460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3520" y="3027240"/>
            <a:ext cx="129564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di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9000" y="4059360"/>
            <a:ext cx="1119240" cy="103176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6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84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90960" y="366408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0960" y="36640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511164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5000" y="556884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3429000"/>
            <a:ext cx="148932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5240" y="4621320"/>
            <a:ext cx="175284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.C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Abc6 ou C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270240"/>
            <a:ext cx="1295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5200" y="5175360"/>
            <a:ext cx="1295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9400" y="50292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19400" y="50292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867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8520" y="5632560"/>
            <a:ext cx="33195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I-Pai-Wu   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A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200 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00360" y="1793880"/>
            <a:ext cx="5749920" cy="862560"/>
            <a:chOff x="1800360" y="1793880"/>
            <a:chExt cx="5749920" cy="862560"/>
          </a:xfrm>
        </p:grpSpPr>
        <p:sp>
          <p:nvSpPr>
            <p:cNvPr id="84" name=""/>
            <p:cNvSpPr/>
            <p:nvPr/>
          </p:nvSpPr>
          <p:spPr>
            <a:xfrm>
              <a:off x="1800360" y="1869840"/>
              <a:ext cx="1295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25 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969000" y="1793880"/>
              <a:ext cx="3581280" cy="862560"/>
              <a:chOff x="3969000" y="1793880"/>
              <a:chExt cx="3581280" cy="862560"/>
            </a:xfrm>
          </p:grpSpPr>
          <p:sp>
            <p:nvSpPr>
              <p:cNvPr id="86" name=""/>
              <p:cNvSpPr/>
              <p:nvPr/>
            </p:nvSpPr>
            <p:spPr>
              <a:xfrm>
                <a:off x="3969000" y="1793880"/>
                <a:ext cx="13716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Extens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dos d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5000" y="1869840"/>
                <a:ext cx="129528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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25 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35B8-9F5E-406A-8834-32A72D61B3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295280"/>
            <a:ext cx="41148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Escoamento  Super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0,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97180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tuação A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6400" y="2971800"/>
            <a:ext cx="59436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onsiderar tipo, uso e ocupação dos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Base de informação: carta 1:50.000; 1: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foto aé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magem 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álculo de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403960"/>
            <a:ext cx="59436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tilizar previsão da ocupação futura da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340A-BC6A-4858-9145-5704ABF77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5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1600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(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76200"/>
            <a:ext cx="213336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Barr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48006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5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3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10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2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648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0 m  ou   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236232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3124080"/>
            <a:ext cx="19051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8200" y="3886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8200" y="4648320"/>
            <a:ext cx="28958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.000 ou P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6F7D-76F7-4CC0-AE7C-DFCBD43ED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219320"/>
            <a:ext cx="2438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100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51814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analização, Travessia, Bu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666880"/>
            <a:ext cx="2438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18160" y="1379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2004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A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oderá ace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343400"/>
            <a:ext cx="6005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eir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estradas)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ural / sem inter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regime livre 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verificar inundação a montante para TR =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anuência proprietá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077920"/>
            <a:ext cx="5410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ural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– pequen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–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erificação eventos +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33560" y="3137040"/>
            <a:ext cx="60055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Área urbanização densa:</a:t>
            </a:r>
            <a:r>
              <a:rPr b="1" lang="en-US" sz="3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0,75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C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rio confinado / edificações – adequação inv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F6AD-BBB0-4B6B-84B9-67A3BE6EBF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14400"/>
            <a:ext cx="54864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mpo de Concentração -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962520"/>
            <a:ext cx="792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(min) ...............................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m   t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 min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[restrição IDF]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L (km)     = comprimento do talve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S (m/km) = declividade média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* DAEE aceita / recomenda uso da declividade equivalente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Arial Narrow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28800"/>
            <a:ext cx="6476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pressão do   </a:t>
            </a:r>
            <a:r>
              <a:rPr b="1" i="1" lang="pt-BR" sz="2800" spc="-1" strike="noStrike">
                <a:solidFill>
                  <a:srgbClr val="000000"/>
                </a:solidFill>
                <a:latin typeface="Arial Narrow"/>
              </a:rPr>
              <a:t>California Culvert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65480" y="2438280"/>
                <a:ext cx="29160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9E19-5560-4405-A449-50A966ED6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143000"/>
            <a:ext cx="579096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nsidade da Chuva Crítica –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,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terminar por meio das equaçõ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tensidade – Duração – Freqü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senvolvidas pelo DA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“</a:t>
            </a: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Equações de Chuvas Inten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do Estado de São Paulo – DAEE, 1999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www.sigrh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690B-3555-439E-8B47-9E818545D5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1:17:51Z</dcterms:created>
  <dc:creator>daee</dc:creator>
  <dc:description/>
  <dc:language>en-US</dc:language>
  <cp:lastModifiedBy>daee</cp:lastModifiedBy>
  <dcterms:modified xsi:type="dcterms:W3CDTF">2005-11-18T18:29:31Z</dcterms:modified>
  <cp:revision>46</cp:revision>
  <dc:subject/>
  <dc:title>DAEE  -  OUTORGA  EXIGÊNCIAS PARA APRESENTAÇÃO DE ESTUDOS E PROJETOS EM REQUERIMENTOS DE OUTORGA DE OBRAS HIDRÁULICAS</dc:title>
</cp:coreProperties>
</file>